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968-183E-4DBB-BAE4-AE1C79DF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0A6-9206-48A4-8246-471789E4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F62-FD60-49DB-B0E0-B8147B9E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6B3-BA1D-4BD8-9299-337D9C93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208-16D6-41FA-A558-9EEEE743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244-C124-4B44-B802-7D32FE95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630-7396-4ACE-98F7-299B1E9F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2B0-5FCE-4C83-BCE8-4474D823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8C6-73EB-4291-A4A9-B9B04E8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E3D-1864-4F44-87BB-C41A69A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421-DEE5-4A60-88D1-9A01958E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7FA-AE6B-4E61-86DB-8B4973AF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1DAA-6710-414D-90F7-3ADF7CC6D0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692280"/>
            <a:ext cx="720108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ST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14520" y="2119320"/>
            <a:ext cx="61149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63520" y="1309680"/>
            <a:ext cx="6818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01600" y="1681200"/>
            <a:ext cx="69422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082520" y="1633680"/>
            <a:ext cx="69804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00"/>
            </a:gs>
            <a:gs pos="50000">
              <a:srgbClr val="00ff00"/>
            </a:gs>
            <a:gs pos="100000">
              <a:srgbClr val="007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1833480" y="1341360"/>
            <a:ext cx="576288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RREGULAR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VERB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476360" y="1519200"/>
            <a:ext cx="61912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249200" y="1733400"/>
            <a:ext cx="66470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368360" y="1557360"/>
            <a:ext cx="6408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209600" y="1538280"/>
            <a:ext cx="67262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62000" y="1552680"/>
            <a:ext cx="70214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258920" y="757080"/>
            <a:ext cx="6842160" cy="55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20600" y="1495440"/>
            <a:ext cx="71042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4718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724040" y="1457280"/>
            <a:ext cx="5695920" cy="395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EGATIVE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NTENCES</a:t>
            </a:r>
            <a:endParaRPr b="0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20680" y="1638360"/>
            <a:ext cx="6904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290600" y="1461960"/>
            <a:ext cx="65642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095480" y="1457280"/>
            <a:ext cx="69548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333440" y="1638360"/>
            <a:ext cx="6478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766880" y="1519200"/>
            <a:ext cx="56102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967040" y="1486080"/>
            <a:ext cx="5209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800360" y="2276640"/>
            <a:ext cx="6156360" cy="17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009880" y="1619280"/>
            <a:ext cx="512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206360" y="1776240"/>
            <a:ext cx="673272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33520" y="2309760"/>
            <a:ext cx="62769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71760"/>
          <a:ext cx="8564760" cy="1081080"/>
        </p:xfrm>
        <a:graphic>
          <a:graphicData uri="http://schemas.openxmlformats.org/drawingml/2006/table">
            <a:tbl>
              <a:tblPr/>
              <a:tblGrid>
                <a:gridCol w="2376720"/>
                <a:gridCol w="3024000"/>
                <a:gridCol w="31640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Subject+ vb. in p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Subject+didn’t + 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70c0"/>
                          </a:solidFill>
                          <a:latin typeface="Arial"/>
                          <a:ea typeface="Times New Roman"/>
                        </a:rPr>
                        <a:t>Did+ subject+ infinitiv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295560" y="3147480"/>
            <a:ext cx="8644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walk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dn’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wal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wal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w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dn’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65640" y="430200"/>
            <a:ext cx="60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IMPLE PAST </a:t>
            </a:r>
            <a:r>
              <a:rPr b="0" lang="en-GB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0360" y="5144040"/>
            <a:ext cx="44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Short answ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Yes, I did / No, I did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209600" y="1476360"/>
            <a:ext cx="67262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87280" y="1457280"/>
            <a:ext cx="6770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6080" y="1528920"/>
            <a:ext cx="671364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135080" y="1500120"/>
            <a:ext cx="68752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376280" y="1542960"/>
            <a:ext cx="63928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442880" y="1533600"/>
            <a:ext cx="62582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7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763640" y="1413000"/>
            <a:ext cx="59770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EXPRE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6840720" cy="3646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0920" y="0"/>
            <a:ext cx="6669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414440" y="1781280"/>
            <a:ext cx="6315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332000" y="3267000"/>
            <a:ext cx="6446880" cy="359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6523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789280" y="3390840"/>
            <a:ext cx="6354720" cy="34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5688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619280" y="1341360"/>
            <a:ext cx="6192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t w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934160" cy="279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2124000" y="3933720"/>
            <a:ext cx="487692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799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8374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76185e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556000" y="692280"/>
            <a:ext cx="4680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GULAR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ERBS</a:t>
            </a:r>
            <a:endParaRPr b="0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200320" y="1676520"/>
            <a:ext cx="4743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0:33:03Z</dcterms:created>
  <dc:creator>mcc</dc:creator>
  <dc:description/>
  <dc:language>en-US</dc:language>
  <cp:lastModifiedBy>MCC</cp:lastModifiedBy>
  <dcterms:modified xsi:type="dcterms:W3CDTF">2011-03-09T08:59:09Z</dcterms:modified>
  <cp:revision>5</cp:revision>
  <dc:subject/>
  <dc:title>Diapositiva 1</dc:title>
</cp:coreProperties>
</file>